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9.png" ContentType="image/png"/>
  <Override PartName="/ppt/media/image11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94C6-0FE7-44D3-88F9-6EFE84D6C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CDCB-A94C-42DC-9051-627C4A95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4346-C78A-4205-BA1B-545F4729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8564-80A6-4FBF-93A9-5190832BD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8495-9F31-4090-9AE9-416CC8D1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4271-4D82-4FD6-8095-DE5A63CB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C349-F279-4665-A608-90730EBC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EAB9-BD7F-4D81-97F4-CE47EFD0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F3F1-EAF3-4B76-A59A-991C8B81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E6B0-DB7B-4734-B63D-9B8D648B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8ECB-D8E8-4735-A039-58AD7C65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C60A-8F8A-4899-AAEC-99F904F1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CBEA-E1DB-4248-B30C-168C043F8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Egyptian Gods and Godd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urlz MT"/>
              </a:rPr>
              <a:t>By: Karisa Barkis and Hope B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Hope You Liked Our Presenta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505320" y="3962520"/>
            <a:ext cx="1974600" cy="1698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7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e End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514600" y="3429000"/>
            <a:ext cx="3981600" cy="2808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50000">
              <a:srgbClr val="156b13"/>
            </a:gs>
            <a:gs pos="100000">
              <a:srgbClr val="ddebc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Here are some gods we will be talking abou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un-Re- The sun god and god of cre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siris- The god of the living and the d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oth- The god of wisdom, writing, and the m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sis- The goddess of w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rus- The sky god and god of king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ubis- The god who preformed the ceremonies of mummification and protected the cemete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athor- The goddesses of love, music, and danc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Amun- 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un- Re was the chief deity of the New Kingdom (from about 1539 B.C to 1070 B.C.) He was pictured as a human wearing a crown of two feathers. The famous temple of Karnak was dedicated to hi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505320" y="3962520"/>
            <a:ext cx="1617480" cy="22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98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Osi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905120"/>
            <a:ext cx="8001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siris represented rebirth after death. He ruled the afterlife judging all Egyptians after they died. He was shown as a mummy wearing a feathered crown and holding a farming tool in his arms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505320" y="4114800"/>
            <a:ext cx="1758960" cy="205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sis was the wife of Osiris and the mother Horus. Isis was a powerful magician. She was often pictured with the hieroglyphic symbol for “throne” on her he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733920" y="3733920"/>
            <a:ext cx="1357200" cy="27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Th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A moon god, was the keeper of time and inventor of writing. He was drawn with the head of a bird. He held writing materials and wore full and crescent moons on two of his symb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86200" y="3505320"/>
            <a:ext cx="15652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Ho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rus was the sky god and god of kingship. Horus in Egyptian means “he who is above”. His mother was Isis. He is one of the main g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0" y="2819520"/>
            <a:ext cx="166536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33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Hat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752480"/>
            <a:ext cx="8153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athor was the goddesses of love, music, and dancing. She also protected women. Hathor was most often pictured as a human with a circle representing the sun between two cow horns on her 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72200" y="3809880"/>
            <a:ext cx="1177920" cy="2776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Anub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ubis is the god of the dead. He preformed the ceremonies of mummification. He was shown with the head of a jack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733920" y="2971800"/>
            <a:ext cx="178596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7:58:44Z</dcterms:created>
  <dc:creator>Default</dc:creator>
  <dc:description/>
  <dc:language>en-US</dc:language>
  <cp:lastModifiedBy>Default</cp:lastModifiedBy>
  <dcterms:modified xsi:type="dcterms:W3CDTF">2009-01-16T17:47:52Z</dcterms:modified>
  <cp:revision>5</cp:revision>
  <dc:subject/>
  <dc:title> Egyptian Gods and Goddesses</dc:title>
</cp:coreProperties>
</file>